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9BE-862C-4604-88A1-3131A185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A12-6E3E-4D1D-AB68-85B58659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3D3-A7F1-4DDD-B0B0-61BD690A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36B-4E60-4C23-8239-DA68F024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18C63-6965-424F-98AF-796DD019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0D29D-3A79-4A57-A279-04A90C7C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DDD32-1345-49ED-ADE4-A3751D66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9CE57-4679-4000-9B4D-A0C1B3FC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B6A63-8641-401C-8576-1F6630A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11AEF-F4D2-4ACD-BBA9-33CFFD1B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4983-D17E-4D46-93FC-344BEA6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E76-1609-4932-A5B0-2F0CFD15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50D5F-590F-4621-BE1F-C3A254E2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C12C1-07FD-43C0-9BE4-617F95D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167CC-E3C0-4298-BF0B-0F06461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AEEFC-AFAD-4EDD-9A63-5BC0BE53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C1D4A-B17E-4EE9-9F19-02F4B2D5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1E3-2C94-48F1-81AA-C1CC1155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326F-52C7-4D73-B977-B95658C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122-3E81-4BD1-87AD-ABCC9922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FEC-E953-4149-9882-1D8918B2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469-6C69-4452-85A4-7303068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42B-2CCA-4F67-B51A-27C3A8D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E19-E84A-4E88-9690-5994073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9414-69A1-47B4-923E-AE6594345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CB09-22AC-42FC-A147-E51897880A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ru/imgres?imgurl=http://world-fishing.ru/wp-content/uploads/2008/11/d181d0bed0bc.jpg&amp;imgrefurl=http://world-fishing.ru/som/&amp;h=196&amp;w=400&amp;sz=12&amp;tbnid=4erolXHDjSj0lM:&amp;tbnh=61&amp;tbnw=124&amp;prev=/search?q=&#1082;&#1072;&#1088;&#1090;&#1080;&#1085;&#1082;&#1072;+&#1089;&#1086;&#1084;&#1072;&amp;tbm=isch&amp;tbo=u&amp;zoom=1&amp;q=&#1082;&#1072;&#1088;&#1090;&#1080;&#1085;&#1082;&#1072;+&#1089;&#1086;&#1084;&#1072;&amp;hl=ru&amp;usg=__SCRwfqV1DMDiftjzjdjnczitnjs=&amp;sa=X&amp;ei=HcuRTfCGLciUswaStI3QBg&amp;ved=0CCQQ9QEwAw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google.ru/imgres?imgurl=http://moisvet.net/fishing/shyka.jpg&amp;imgrefurl=http://moisvet.net/2010/09/08/&amp;h=186&amp;w=180&amp;sz=8&amp;tbnid=vn4hysAG9Q6rvM:&amp;tbnh=102&amp;tbnw=99&amp;prev=/search%3Fq%3D%25D0%25A9%25D1%2583%25D0%25BA%25D0%25B0%26tbm%3Disch%26tbo%3Du&amp;zoom=1&amp;q=&#1065;&#1091;&#1082;&#1072;&amp;hl=ru&amp;usg=__1qxTx-1kuFCUCv17yx83_heybG8=&amp;sa=X&amp;ei=cM2RTby1Bc_usgaa_pHQBg&amp;ved=0CDsQ9QEwBg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google.ru/imgres?imgurl=http://rund.110mb.com/objects/presnovod/pics/sazan.jpg&amp;imgrefurl=http://rund.110mb.com/objects/presnovod/sazan.shtml&amp;h=315&amp;w=677&amp;sz=44&amp;tbnid=Q-mSmeZQlpiguM:&amp;tbnh=65&amp;tbnw=139&amp;prev=/search%3Fq%3D%25D0%25A1%25D0%25B0%25D0%25B7%25D0%25B0%25D0%25BD%26tbm%3Disch%26tbo%3Du&amp;zoom=1&amp;q=&#1057;&#1072;&#1079;&#1072;&#1085;&amp;hl=ru&amp;usg=__hlSUZjCAfT_ArH6XXoTjZmtmYvQ=&amp;sa=X&amp;ei=Qc6RTfr4GYvCswbL2ZnQBg&amp;ved=0CDkQ9QEwCQ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ww.google.ru/imgres?imgurl=http://world-fishing.ru/wp-content/uploads/2008/11/d0bed0bad183d0bdd18c.jpg&amp;imgrefurl=http://world-fishing.ru/okun/&amp;h=312&amp;w=450&amp;sz=21&amp;tbnid=i37WxGmWzoX7qM:&amp;tbnh=88&amp;tbnw=127&amp;prev=/search%3Fq%3D%25D0%25BE%25D0%25BA%25D1%2583%25D0%25BD%25D1%258C%26tbm%3Disch%26tbo%3Du&amp;zoom=1&amp;q=&#1086;&#1082;&#1091;&#1085;&#1100;&amp;hl=ru&amp;usg=__5x59IzWMG8CuLZFXGqFghI2bSDg=&amp;sa=X&amp;ei=k86RTYqzAsbGswaI-ZTQBg&amp;ved=0CC8Q9QEwBA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google.ru/imgres?imgurl=http://multilovlya.ru/images/stories/11q.jpg&amp;imgrefurl=http://multilovlya.ru/osetr.html&amp;h=211&amp;w=300&amp;sz=10&amp;tbnid=V4n-3Sj36IRoJM:&amp;tbnh=82&amp;tbnw=116&amp;prev=/search%3Fq%3D%25D0%25BE%25D1%2581%25D0%25B5%25D1%2582%25D1%2580%26tbm%3Disch%26tbo%3Du&amp;zoom=1&amp;q=&#1086;&#1089;&#1077;&#1090;&#1088;&amp;hl=ru&amp;usg=__3CYFt_PupnYwgW82rwjXol9Z_UA=&amp;sa=X&amp;ei=C8-RTa6QI4jvsga-xZzQBg&amp;ved=0CCwQ9QEwAw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www.google.ru/imgres?imgurl=http://doyounow.ru/images/image-41.jpg&amp;imgrefurl=http://doyounow.ru/spravochnik-po-ribam/shemaja.html&amp;h=227&amp;w=650&amp;sz=18&amp;tbnid=bQFQ0EGLCAd1XM:&amp;tbnh=48&amp;tbnw=137&amp;prev=/search%3Fq%3D%25D1%2588%25D0%25B5%25D0%25BC%25D0%25B0%25D1%258F%26tbm%3Disch%26tbo%3Du&amp;zoom=1&amp;q=&#1096;&#1077;&#1084;&#1072;&#1103;&amp;hl=ru&amp;usg=__bLzFk8j_a1IkNBZOE1-L8k5bnjo=&amp;sa=X&amp;ei=P8-RTc3MHNCOswbJ853QBg&amp;ved=0CDcQ9QEwCA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www.google.ru/imgres?imgurl=http://www.fishingall.ru/fish/imgs/28.jpg&amp;imgrefurl=http://www.fishingall.ru/fish/28.html&amp;h=167&amp;w=350&amp;sz=8&amp;tbnid=9g_cRCJFJB0tEM:&amp;tbnh=57&amp;tbnw=120&amp;prev=/search%3Fq%3D%25D1%2580%25D1%258B%25D0%25B1%25D0%25B5%25D1%2586%26tbm%3Disch%26tbo%3Du&amp;zoom=1&amp;q=&#1088;&#1099;&#1073;&#1077;&#1094;&amp;hl=ru&amp;usg=__u6aN8JWzicM5dvo6sa8ZdkA4r1E=&amp;sa=X&amp;ei=c8-RTY_CJtGKswav6azQBg&amp;ved=0CD8Q9QEwCg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www.google.ru/imgres?imgurl=http://riba-engels.ru/uploads/posts/2011-01/1296505421_t.jpg&amp;imgrefurl=http://riba-engels.ru/price/6-tolstolobik.html&amp;h=289&amp;w=600&amp;sz=43&amp;tbnid=IhyaSrqFjw2M3M:&amp;tbnh=65&amp;tbnw=135&amp;prev=/search%3Fq%3D%25D1%2582%25D0%25BE%25D0%25BB%25D1%2581%25D1%2582%25D0%25BE%25D0%25BB%25D0%25BE%25D0%25B1%25D0%25B8%25D0%25BA%26tbm%3Disch%26tbo%3Du&amp;zoom=1&amp;q=&#1090;&#1086;&#1083;&#1089;&#1090;&#1086;&#1083;&#1086;&#1073;&#1080;&#1082;&amp;hl=ru&amp;usg=__X3BFsEEn78XhfY1sOw-uzCJ5Xys=&amp;sa=X&amp;ei=4c-RTeP9CsyUswacuKXQBg&amp;ved=0CCcQ9QEwBA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www.google.ru/imgres?imgurl=http://ryba.fatal.ru/img/plotva-base.jpg&amp;imgrefurl=http://ryba.fatal.ru/plotva.php&amp;h=321&amp;w=650&amp;sz=24&amp;tbnid=7XOdOMO4feTPFM:&amp;tbnh=68&amp;tbnw=137&amp;prev=/search%3Fq%3D%25D0%25BF%25D0%25BB%25D0%25BE%25D1%2582%25D0%25B2%25D0%25B0%26tbm%3Disch%26tbo%3Du&amp;zoom=1&amp;q=&#1087;&#1083;&#1086;&#1090;&#1074;&#1072;&amp;hl=ru&amp;usg=__2N_HhFuFQRGXn-Njk_q2humDWN0=&amp;sa=X&amp;ei=GdCRTZnUPIPzsgbB2JjQBg&amp;ved=0CDIQ9QEwBA" TargetMode="External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бой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В благодатном Краснодарском кра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ь забытый всеми угол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м, на левом берегу Прото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ерялся в плавнях хутор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азванье странное Забой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тому что строили забо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ы реку не пустить в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сегодня плавни отступ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 и хутор тот посёлком ст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оль него по-прежнему Прото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мывает наш защитный вал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щенко Наст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IMG_0067"/>
          <p:cNvPicPr/>
          <p:nvPr/>
        </p:nvPicPr>
        <p:blipFill>
          <a:blip r:embed="rId1"/>
          <a:stretch/>
        </p:blipFill>
        <p:spPr>
          <a:xfrm>
            <a:off x="4390920" y="1989000"/>
            <a:ext cx="4753080" cy="33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58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18108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259920"/>
            <a:ext cx="866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Blackadder ITC"/>
              </a:rPr>
              <a:t>Название  реки, на берегу которой расположен посёлок Забой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166200" y="69048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(Прото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-427680" y="1340640"/>
            <a:ext cx="51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Blackadder ITC"/>
              </a:rPr>
              <a:t>Название « царской рыбы »</a:t>
            </a:r>
            <a:r>
              <a:rPr b="0" i="1" lang="ru-RU" sz="28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311720" y="13402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(шемая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-284400" y="198828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Blackadder ITC"/>
              </a:rPr>
              <a:t>Могучий древний океа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956400" y="19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(Тетис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-223560" y="263628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Blackadder ITC"/>
              </a:rPr>
              <a:t>Залежи ракушки это…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51280" y="27068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(ороговевшие остан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орских животных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-464040" y="3715560"/>
            <a:ext cx="69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Blackadder ITC"/>
              </a:rPr>
              <a:t>Человек, побывавший в Антарктид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3039840" y="421992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Соляник Владимир Андреевич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-653760" y="4941000"/>
            <a:ext cx="93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Blackadder ITC"/>
              </a:rPr>
              <a:t>Животные, обитающие по берегам реки Прото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13320" y="5515560"/>
            <a:ext cx="90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(выдра, кабан, заяц, лисица, куница, ондатра, шакал).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юбимый сердцу угол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IMG_0069"/>
          <p:cNvPicPr/>
          <p:nvPr/>
        </p:nvPicPr>
        <p:blipFill>
          <a:blip r:embed="rId1"/>
          <a:stretch/>
        </p:blipFill>
        <p:spPr>
          <a:xfrm>
            <a:off x="0" y="765000"/>
            <a:ext cx="4103640" cy="3529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MG_0068"/>
          <p:cNvPicPr/>
          <p:nvPr/>
        </p:nvPicPr>
        <p:blipFill>
          <a:blip r:embed="rId2"/>
          <a:stretch/>
        </p:blipFill>
        <p:spPr>
          <a:xfrm>
            <a:off x="4716360" y="836640"/>
            <a:ext cx="4103640" cy="33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новый год1 214"/>
          <p:cNvPicPr/>
          <p:nvPr/>
        </p:nvPicPr>
        <p:blipFill>
          <a:blip r:embed="rId3"/>
          <a:stretch/>
        </p:blipFill>
        <p:spPr>
          <a:xfrm>
            <a:off x="2124000" y="3500280"/>
            <a:ext cx="4319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ка Прото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IMG_0066"/>
          <p:cNvPicPr/>
          <p:nvPr/>
        </p:nvPicPr>
        <p:blipFill>
          <a:blip r:embed="rId1"/>
          <a:stretch/>
        </p:blipFill>
        <p:spPr>
          <a:xfrm>
            <a:off x="468360" y="1104840"/>
            <a:ext cx="8136000" cy="5203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IMG_0066"/>
          <p:cNvPicPr/>
          <p:nvPr/>
        </p:nvPicPr>
        <p:blipFill>
          <a:blip r:embed="rId2"/>
          <a:stretch/>
        </p:blipFill>
        <p:spPr>
          <a:xfrm>
            <a:off x="500040" y="1071720"/>
            <a:ext cx="8136000" cy="5203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лима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http://www.google.ru/images?q=tbn:4erolXHDjSj0lM::world-fishing.ru/wp-content/uploads/2008/11/d181d0bed0bc.jpg&amp;t=1&amp;h=60&amp;w=122&amp;usg=__pvKjk2Bdy1Hplekv0PgqI5OklRU=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365720"/>
            <a:ext cx="2214360" cy="97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ttp://www.google.ru/images?q=tbn:vn4hysAG9Q6rvM::moisvet.net/fishing/shyka.jpg&amp;t=1&amp;h=78&amp;w=75&amp;usg=__Y-4WIa2pAGDGg61R3JbBBy5kEf4=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1844640"/>
            <a:ext cx="1500120" cy="145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http://www.google.ru/images?q=tbn:Q-mSmeZQlpiguM::rund.110mb.com/objects/presnovod/pics/sazan.jpg&amp;t=1&amp;h=64&amp;w=137&amp;usg=__WOLMVdgcBQma0bh387o_Pim2c_w=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340000" y="3213000"/>
            <a:ext cx="1305000" cy="60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http://www.google.ru/images?q=tbn:i37WxGmWzoX7qM::world-fishing.ru/wp-content/uploads/2008/11/d0bed0bad183d0bdd18c.jpg&amp;t=1&amp;h=78&amp;w=112&amp;usg=__7TTJ7FYBazWEuVa4C8tA5c_PtYU=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786200" y="1643040"/>
            <a:ext cx="1067040" cy="7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http://www.google.ru/images?q=tbn:V4n-3Sj36IRoJM::multilovlya.ru/images/stories/11q.jpg&amp;t=1&amp;h=78&amp;w=110&amp;usg=__3N5Bgancn3IeL-I_x-cLOnMQaM4=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4429080"/>
            <a:ext cx="2000160" cy="1000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http://www.google.ru/images?q=tbn:bQFQ0EGLCAd1XM::doyounow.ru/images/image-41.jpg&amp;t=1&amp;h=48&amp;w=137&amp;usg=__SQSqs4H8Jx-Q_XrMro8PshwDC-o=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786280" y="5357880"/>
            <a:ext cx="2162160" cy="9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://www.google.ru/images?q=tbn:9g_cRCJFJB0tEM::www.fishingall.ru/fish/imgs/28.jpg&amp;t=1&amp;h=56&amp;w=117&amp;usg=__NLR16Mvdc67VtwI1O5pOLtbZL9I=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619280" y="5589720"/>
            <a:ext cx="2071800" cy="78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http://www.google.ru/images?q=tbn:IhyaSrqFjw2M3M::riba-engels.ru/uploads/posts/2011-01/1296505421_t.jpg&amp;t=1&amp;h=64&amp;w=132&amp;usg=__fw2m71b4zmzl-hLNzHC9R-bXW6Q=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140360" y="2997360"/>
            <a:ext cx="125712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http://www.google.ru/images?q=tbn:7XOdOMO4feTPFM::ryba.fatal.ru/img/plotva-base.jpg&amp;t=1&amp;h=68&amp;w=137&amp;usg=__XbK2HxHlvRZNxCoH9wIix2HgKWg=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627280" y="1916280"/>
            <a:ext cx="1305000" cy="65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http://www.google.ru/images?q=tbn:3Q05-B1LhH98wM::rybalovstvo.ru/wp-content/uploads/2009/07/chehon1.jpg&amp;t=1&amp;h=54&amp;w=137&amp;usg=__wJX2SyO9GW9Mus4CT2pmJumnyQ4="/>
          <p:cNvPicPr/>
          <p:nvPr/>
        </p:nvPicPr>
        <p:blipFill>
          <a:blip r:embed="rId20"/>
          <a:stretch/>
        </p:blipFill>
        <p:spPr>
          <a:xfrm>
            <a:off x="1476360" y="765000"/>
            <a:ext cx="1305000" cy="514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468360" y="342900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Щу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62400" y="543564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Осет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764000" y="14130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Чехон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630520" y="270828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ло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486880" y="393372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аза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708720" y="544500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С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4998600" y="24670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Окун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515640" y="64612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Ше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2189520" y="646596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Толстолоб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4433400" y="37162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ыбец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ДОРОГИЕ МОИ ЗЕМЛЯКИ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«Людей неинтересных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 мире н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Их судьбы – как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Истории планет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Е.Евтушенк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IMG_0064"/>
          <p:cNvPicPr/>
          <p:nvPr/>
        </p:nvPicPr>
        <p:blipFill>
          <a:blip r:embed="rId1"/>
          <a:stretch/>
        </p:blipFill>
        <p:spPr>
          <a:xfrm>
            <a:off x="2340000" y="620640"/>
            <a:ext cx="4032360" cy="4896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360" y="5445000"/>
            <a:ext cx="590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тенна настроена н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оспутни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544464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станции «Восток»  в июле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74 граду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3" descr="IMG_0065"/>
          <p:cNvPicPr/>
          <p:nvPr/>
        </p:nvPicPr>
        <p:blipFill>
          <a:blip r:embed="rId1"/>
          <a:stretch/>
        </p:blipFill>
        <p:spPr>
          <a:xfrm>
            <a:off x="1116000" y="476280"/>
            <a:ext cx="6624720" cy="468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2916360" cy="2276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kunical5"/>
          <p:cNvPicPr/>
          <p:nvPr/>
        </p:nvPicPr>
        <p:blipFill>
          <a:blip r:embed="rId2"/>
          <a:stretch/>
        </p:blipFill>
        <p:spPr>
          <a:xfrm>
            <a:off x="6191280" y="0"/>
            <a:ext cx="2952720" cy="230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Feldhase"/>
          <p:cNvPicPr/>
          <p:nvPr/>
        </p:nvPicPr>
        <p:blipFill>
          <a:blip r:embed="rId3"/>
          <a:stretch/>
        </p:blipFill>
        <p:spPr>
          <a:xfrm>
            <a:off x="3059280" y="1413000"/>
            <a:ext cx="3600360" cy="266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лисонька"/>
          <p:cNvPicPr/>
          <p:nvPr/>
        </p:nvPicPr>
        <p:blipFill>
          <a:blip r:embed="rId4"/>
          <a:stretch/>
        </p:blipFill>
        <p:spPr>
          <a:xfrm>
            <a:off x="6119640" y="3645000"/>
            <a:ext cx="3024360" cy="2890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кабан"/>
          <p:cNvPicPr/>
          <p:nvPr/>
        </p:nvPicPr>
        <p:blipFill>
          <a:blip r:embed="rId5"/>
          <a:stretch/>
        </p:blipFill>
        <p:spPr>
          <a:xfrm>
            <a:off x="468360" y="2637000"/>
            <a:ext cx="3103560" cy="2906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ондатра"/>
          <p:cNvPicPr/>
          <p:nvPr/>
        </p:nvPicPr>
        <p:blipFill>
          <a:blip r:embed="rId6"/>
          <a:stretch/>
        </p:blipFill>
        <p:spPr>
          <a:xfrm>
            <a:off x="0" y="5157720"/>
            <a:ext cx="2665440" cy="1890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шакал"/>
          <p:cNvPicPr/>
          <p:nvPr/>
        </p:nvPicPr>
        <p:blipFill>
          <a:blip r:embed="rId7"/>
          <a:stretch/>
        </p:blipFill>
        <p:spPr>
          <a:xfrm>
            <a:off x="3564000" y="4842000"/>
            <a:ext cx="2735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рье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8:41:30Z</dcterms:created>
  <dc:creator>Наталья Павловна</dc:creator>
  <dc:description/>
  <dc:language>en-US</dc:language>
  <cp:lastModifiedBy>СОШ № 20</cp:lastModifiedBy>
  <dcterms:modified xsi:type="dcterms:W3CDTF">2015-02-13T09:04:52Z</dcterms:modified>
  <cp:revision>15</cp:revision>
  <dc:subject/>
  <dc:title>Слайд 1</dc:title>
</cp:coreProperties>
</file>